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957320" y="1015920"/>
            <a:ext cx="8344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odiu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173320" y="1225440"/>
            <a:ext cx="74167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anufacturers use electric current to obtain sodiu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2744640" y="3301920"/>
            <a:ext cx="68454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nd sodium is the sixth most common chemical element in the earths crus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808440" y="2654280"/>
            <a:ext cx="5665680" cy="4229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430440" y="387360"/>
            <a:ext cx="5384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ere is the Element symbo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398600" y="2413080"/>
            <a:ext cx="8712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ts Atomic Number is 11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3303720" y="4197240"/>
            <a:ext cx="546084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ts Atomic Mass 22.989770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440080" y="2463840"/>
            <a:ext cx="67942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ts location on the periodic table is number 11 and its element group is alkali meta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097000" y="635040"/>
            <a:ext cx="7873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ere is a picture of sodiu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290760" y="7175520"/>
            <a:ext cx="60454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s you can see it is a silvery white metallic eleme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825640" y="1587600"/>
            <a:ext cx="6693120" cy="50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855800" y="1422360"/>
            <a:ext cx="8153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ere are the isotopes of sodiu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502000" y="2260440"/>
            <a:ext cx="800100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014720" y="1390680"/>
            <a:ext cx="4470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re is only one ion of sodiu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0720" y="2571840"/>
            <a:ext cx="652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In 1807, the En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1500120" y="1758960"/>
            <a:ext cx="7848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 1807 europe, english chemist Sir Humphry Davy discovered sodiu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025880" y="3541680"/>
            <a:ext cx="316224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444600" y="4648320"/>
            <a:ext cx="13004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Sodium compounds have many uses in industry, medicine, agriculture, and photography. Manufacturers use </a:t>
            </a:r>
            <a:r>
              <a:rPr b="0" lang="en-US" sz="13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sodium borate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 (borax) in making ceramics, soaps, water softeners, and many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914400"/>
            <a:ext cx="1300464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odium compounds have many uses in industry, medicine, agriculture, and photography. Manufacturers use sodium borate (borax) in making ceramics, soaps, water softeners, and many other produc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